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0404-FA08-4431-B9AB-267D8FFC0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tokresource.org/tok_classes/biobiobio/biomenu/transcription_translation/index.htm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en.wikipedia.org/wiki/File:5'_cap_structure.png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britannica.com/EBchecked/media/114928/Genes-are-made-up-of-promoter-regions-and-alternating-regions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school.com/science/biology_place/biocoach/transcription/premrn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biology.arizona.edu/molecular_bio/problem_sets/mol_genetics_of_eukaryotes/01t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sandwalk.blogspot.com/2008/09/how-rna-polymerase-binds-to-dna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dna-rna.net/2011/08/24/rna-transcription/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stat.berkeley.edu/users/terry/Classes/s260.1998/Week12/week12/node5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nature.com/scitable/topicpage/translation-dna-to-mrna-to-protein-393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3D2A-2BF5-4865-B609-64B75DAD2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6B5C-B49D-4275-B65D-17986A58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465F-A492-4D05-872A-1D0D8D507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9D71-AD86-4847-A415-A396BB0AF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23BB-637F-419A-A9B8-543ED46F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9E6E-DD3A-4DE5-9622-8D4FBD90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74D1-F0C1-4B8E-8645-9207B711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1F90-57ED-4835-8304-905285AB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C385-A67D-49A3-B54C-668D03C4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2513-885B-4E66-BBFC-02D91891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3F27-243B-4F2A-8F7A-2740B20A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7A97-9DF0-4356-B6F9-D9315BFA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8827-AE06-4260-92D0-07634FCA1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2507470/student_view0/chapter3/animation__mrna_synthesis__transcription___quiz_1_.html" TargetMode="External"/><Relationship Id="rId2" Type="http://schemas.openxmlformats.org/officeDocument/2006/relationships/hyperlink" Target="http://www-class.unl.edu/biochem/gp2/m_biology/animation/gene/gene_a2.html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cs.whfreeman.com/thelifewire/content/chp12/1202001.html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xeculink.com/~ekimmel/mrna_flash.htm" TargetMode="External"/><Relationship Id="rId2" Type="http://schemas.openxmlformats.org/officeDocument/2006/relationships/hyperlink" Target="http://www.execulink.com/~ekimmel/mrna_flash.htm" TargetMode="External"/><Relationship Id="rId3" Type="http://schemas.openxmlformats.org/officeDocument/2006/relationships/hyperlink" Target="http://www.execulink.com/~ekimmel/mrna_flash.htm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lecular Ge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iption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2090880"/>
            <a:ext cx="777240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ription 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animation &amp; quiz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ighered.mcgraw-hill.com/sites/0072507470/student_view0/chapter3/animation__mrna_synthesis__transcription___quiz_1_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deshow animation of transcrip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-class.unl.edu/biochem/gp2/m_biology/animation/gene/gene_a2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ription 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ed animation &amp; qui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bcs.whfreeman.com/thelifewire/content/chp12/1202001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transcriptional Modif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ukaryotic cells,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-mR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ry transcrip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ill need to undergo three modifications before leaving the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 of 5’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7-methyl guanosine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’ c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added to the start of the primary transcript to prevent digestion in the cytopla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48320" y="2333520"/>
            <a:ext cx="380988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 of Poly(A) 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ly 200 adenine ribonucleotides are added to the 3’ end by poly-A polyme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called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y(A) tai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oval of In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ukaryotic genome consists of coding regions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nd non-coding regions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-protein complexes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liceos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ut the introns out of the primary transcript and rejoin the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oval of In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424240" y="1981080"/>
            <a:ext cx="4294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nRN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13040" y="1981080"/>
            <a:ext cx="5317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 Spl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shows that exons may be joined in different combinations to produce different but related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s how in humans about 100 000 proteins can be produced from only around 20 000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 much for 1 gene - 1 polypeptide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cess where the DNA code is used to make a complementary mRNA st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RNA Tran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RNA is ready to leave the nucleus for translation and it is now called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RNA tran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5800" y="3813120"/>
            <a:ext cx="77724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animation of post-transcriptional mod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xeculink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m/~ekimmel/mrna_flash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on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NA polymerase binds to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o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906800" y="1981080"/>
            <a:ext cx="3291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moter Seq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beside the start of a gene (upstream of the ge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 site for RNA polymerase to bind to the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TA bo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n eukaryotes): high in adenine and thymine (easier to break H-bond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on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NA polymerase opens the double hel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hesizes mRNA by adding ribonucleotides from 5’ to 3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48320" y="2092320"/>
            <a:ext cx="380988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on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mplate str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DNA is used as a template for making the complementary mRNA st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ing str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DNA is not used for transcription, contains the same sequence as the new 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RNA polymerase reache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tion sequ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ranscription stops and mRNA is rele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48320" y="2021040"/>
            <a:ext cx="380988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4128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2273400"/>
            <a:ext cx="777240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10:33:12Z</dcterms:created>
  <dc:creator>rubina khan</dc:creator>
  <dc:description/>
  <dc:language>en-US</dc:language>
  <cp:lastModifiedBy>rubina khan</cp:lastModifiedBy>
  <dcterms:modified xsi:type="dcterms:W3CDTF">2012-04-25T12:55:52Z</dcterms:modified>
  <cp:revision>109</cp:revision>
  <dc:subject/>
  <dc:title>Molecular Genetics</dc:title>
</cp:coreProperties>
</file>